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DA0-E45D-4E62-8D6E-4FFFC6DF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89F-7A07-4FA3-B553-9E749388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C9C-F947-4653-B5A5-9274D148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82C-63FD-47D4-8E05-FFFCAA11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3E0-91D5-4F47-94B7-9B13C41D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32D-E1EF-4C51-9AFF-65125576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E65-5EC8-457F-9285-364712B4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04F-AB7E-4803-AE34-7AC6FA41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C731-8F11-44F9-B246-9B8F9561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404-D34E-4F12-AAAE-7922A135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484-4955-4EAD-9F3D-D348F155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441-A326-43F4-87AC-1FC24F8B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1FF5-264F-4E1F-AC0A-132A1FF06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idence Interval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R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327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1625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553080" cy="243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553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190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620120" cy="1523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7620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2622600"/>
            <a:ext cx="7543800" cy="2940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543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696080" cy="2133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3124080"/>
            <a:ext cx="76960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equivalen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769644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69644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8080" y="609480"/>
            <a:ext cx="7696440" cy="1676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2286000"/>
            <a:ext cx="7696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equivalen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962520"/>
            <a:ext cx="7696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1:24:58Z</dcterms:modified>
  <cp:revision>41</cp:revision>
  <dc:subject/>
  <dc:title>PowerPoint Presentation</dc:title>
</cp:coreProperties>
</file>